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78F2-054B-439E-9C90-961A7FE8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81FF-9285-4EF3-A207-D5CFECB7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9AAB-5F3E-4217-B159-4A8DBAAC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5511-FD9C-4F25-A7B1-59AEFA0F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7252-D207-493D-AD0A-5A22FDE3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445C-FD7A-46D5-BF82-15FBA1ED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ADD3-FD64-4811-A419-AC41F9A9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8C9B-8BAD-4ABB-8EF8-73473734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7B3-2116-4C51-9BF8-8962C71C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0F6E-FD96-4904-A111-FBB01324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D413-F8CC-4E07-9F9D-F9E386B1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B1D6-5FA7-4142-B998-3D89AD29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8EFF-F94D-4606-856C-3E2C4C34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3A1F-F969-498D-A611-AE4D1665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FD24-6B4D-4451-BDDC-D2080DCF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DFA7-391A-418D-9102-D2D7A79C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AECD-FE29-401B-B9F9-60D7AB3A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D8D0-C944-49B5-9DD8-C7F138D8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7AFC-EDD5-4AEE-A444-1750D8AB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53F2-3FE4-4991-B49F-0A34F9D3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921D-5BA9-4486-BAE1-F88F760B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AE00-5EE1-4AE6-8164-E6B130FF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7240-56B9-448E-928A-4DBE22C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40EF-012B-4F90-8543-A1556D42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9FE4-93AA-4DD9-A414-15F5459B36E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416F-02C5-4D3A-82AB-76D1BB030FB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3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а Си за теб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дадох, твоя Сп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мърт да те спас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лях кръвта Си Аз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рях на кръст ти да си жив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вечността щастлив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 смърт за тебе Съм страдал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 ти що си дал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3042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тавих светъл до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тавих слава там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земна тъмни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йдох - теб светлин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стол оставих за бед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ангелски среди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нещо - помисли - дал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 оставил с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е Аз страдах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от кървав се облях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ежка скръб обзе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кръст Аз бях разпе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зикът ти, о, грешнич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мож го изреч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га добре си помисли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 страдал ли с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8-27T07:51:47Z</dcterms:modified>
  <cp:revision>55</cp:revision>
  <dc:subject/>
  <dc:title>Slide 1</dc:title>
</cp:coreProperties>
</file>